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586D-5127-4038-8D03-140FFD653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3880-1246-449D-B6E3-94D982D1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C246-0EBC-4225-B097-1C74F15D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3695-1871-4655-B27B-A2B0A719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25FA-9FFB-4466-A176-086AE6FEF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D92C-5D70-4F19-BC5C-AF190C148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E708-24F8-4DA6-8683-763D6D70A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43E-D7D1-4BA3-A808-797460DA4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2FB6-F922-46C7-8822-A5021A362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93EE-272B-499F-ACB2-2917D6927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7638-00B0-48B6-B404-53365B1EF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CBCC-636E-45A9-8B35-0D8F6A24D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5C70-E743-436A-AD4F-F5B3CF9A3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4738-B8B2-4983-A0DB-F77EEE9C2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7AE0-5F8C-49A1-B128-E99274A03F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D893-812A-4674-A520-4E4D7B4E73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D682-FEFC-4EA2-BCB4-1C5A77531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CEC1-DFEF-457A-8F5F-EBE74F28A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81B5-2023-4455-93C5-0AB2016CC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7914-1425-438D-949A-99C2953E5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FA62-9741-4952-B9B0-BF68FC96A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7F5A-2C95-4694-ADE3-1DC943AD9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B1BF-A758-4382-B224-37F5C2337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C53B-6F23-47EC-AF2F-F521D0E54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99CF-65EC-44D9-9933-9761CC7C5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27EB-F897-4D57-B584-7F6FD488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1C86-A529-483A-8AEE-4264E8BEB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97AB-EFCB-4EFF-BA9E-229BADD80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E987-DC12-4C3F-89F9-1A56DF46E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7D9-F6A6-4A3A-9FAF-6C798718F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6127-3E0D-4AA8-9E6F-E9638586A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7AF9-93C9-4065-B1B4-8ECDAEFC7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69CE-F519-444B-8825-082650C81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7801-A421-4C34-A82E-1502C3793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5E1F-2F32-4306-B352-0A0E8D986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A1EA-07DF-48DA-904D-95C88F34B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AF16-F501-4AE2-A06E-BCD1F4438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351F-808A-497D-972B-95881862F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AB49-9C00-4740-AEE5-78D249138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C7A9-673B-462D-B27F-E04D837FE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7925-9F89-4FDA-875A-6AE36AC2B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B3C0-5D46-4F0E-8A23-D6505AEA0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A2DD-2425-42A2-935C-4BECA6921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A98E-F2B6-4725-ABB3-5D6840B72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DCB-01A8-44B5-99C6-FBDFF787E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6748-28D2-458F-8A0B-8F3EF626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E590-1D09-48DE-B9DE-FAC673E0C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464D-E442-4B3F-9846-168E03D03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6992-D9AA-4D52-9A90-499B4653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C1AA-CF4D-405C-B990-457D56CF7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FF74-DB21-4D1B-A93A-67BFF2CF3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4FC1-00D6-41F5-9307-E6CA9DA7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C7B6-ADAF-4829-BFD0-505D96057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Tilley, Paul (C'ville)</cp:lastModifiedBy>
  <dcterms:modified xsi:type="dcterms:W3CDTF">2013-11-13T13:03:33Z</dcterms:modified>
  <cp:revision>326</cp:revision>
  <dc:subject/>
  <dc:title>Chapter 8</dc:title>
</cp:coreProperties>
</file>